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232B-F4D4-41C7-9A49-B76D32DF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B8A-069F-406A-8A96-CEE98E48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798D5-F914-4AC8-B11B-057903E6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6D500-BF8B-4341-B139-5DB02B34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86226-674D-4770-B725-E19E4A39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A3D87-3FD6-4D64-8CB5-F53CD4B5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50BAD-EFC3-4450-BE2F-56261946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BDCDD-2608-47D4-BC6D-4D608AFE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D36A9-E6D7-4363-B1B7-C01BB591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B03E6-41F1-4A18-8409-A9E63F50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E0812-373C-4150-BE9B-98B8B4B8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6BAD4E-225E-419B-BE1D-6F17F079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5DF5-DF13-4150-8491-F876C692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F340F1-00CB-4819-AE4C-66D7EAF6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8B98C5-3E78-40F0-A97E-C4772102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9C6750-8772-48F5-BA3E-8E7304D8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6A8922-5D7A-4383-8FD5-77E2C0C9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763094-0358-49B3-9433-543E81EE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80B16D-E3AD-42E7-9CBB-7DE9F2B0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F18C35-66A5-4998-9D0A-A5A2494A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F1D1F4-6DC7-4B0C-98FD-BA4555D7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B57CB9-2B19-4D14-B2C7-1C69DF39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F5DAC0-1EE7-4E60-8ED0-95CD2C58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F8C0-0137-4914-A0C0-F54F5B2B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A992FB-7D27-42F4-9C8F-F4A95C2D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1A483-4DF5-4E29-BEF7-A8FFFE65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C0D18-451A-41D3-9E1F-02BB306E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DFCC8-889E-41B3-89E9-CC7A1EDF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E3FC7-52D4-4BE3-BBF2-FC2D5D1E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3A948-2CC4-4B79-982F-AA0DB308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1FEEB-5687-4E0D-B9F2-762C47EC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4571F-0261-405E-A5FA-6A55E96B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A1470-450E-46FE-A24F-AE14FD06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42C50-E6BD-4348-8D2C-B6ECD4B3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D089-F337-4895-8487-42F4AD83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64A63-E110-4E5E-A635-FA75B761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4F4CC-02D6-4F1A-B714-1789E49F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693A5-C8D9-47A8-BEEF-B011A611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7F0BA-6F59-4B68-8E28-B2F94C0F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513D9-51B9-4287-A59C-CDAC21DA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D4799-CDB6-4338-88D9-FF438CE6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B2B92-72F5-4DFF-AD51-C783833C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84801-495D-4284-A0D3-5EF438E7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4E3FB-22CD-4993-889E-3DF97279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5FD30-F930-4001-8F90-45AA5B25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40D0-D112-48FE-AF11-C4466508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DA52C-0605-4C34-99B7-5ACBA811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50E67-5739-42F1-8AD4-DB7B5647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C75E9-9903-4A84-8C02-F90B60A9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968D4-777F-4115-A1DD-67CF85B4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BDCF2-F572-467F-8D3D-718BB842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3359-A3DA-4EA0-9114-08D3098F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640C-CB79-4821-B020-67587684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71C2-DB94-40DD-8BA6-5725E6BF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F979-2F11-4FBA-868A-7972C34B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2385-916F-4D7C-931F-33408C1A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3F5-3024-47A8-B73B-81C04F29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82E4-36A3-49F9-A7DD-3E2BAD71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B188-9126-4EC2-900F-310C961D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27BA-EC29-4EFE-9DE8-A1E75B46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F22E-9A6A-4B23-9C63-454A45D6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8A78-5FB2-4176-BB5E-2CE939BF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0808C-D855-415C-9220-9A1A260F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CD23C-9CC7-433C-B3A9-52D6C92E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71DDF-6DA9-4B9A-9A62-5ACD16F2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36AF0-2887-4E06-910F-A113C512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1F18C-0E6E-4F4A-96D7-C2F3979C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B6C-4E06-4208-9C19-58C857AF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136D2-B962-472E-85CC-D029C1D6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0982C-2C94-4F97-8CB3-04221D0C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A2873-D703-4F02-9DF6-9BF900D4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F88CC-2158-4DB4-90C1-C160D611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64E31-9530-435B-9527-B583BC8E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EE71D-4511-449B-BF77-A00921CE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C99BB-4E73-4C71-B283-CC079278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DED4B8-CE5F-41A6-9191-5B39946C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03669B-50D6-458F-9578-350DD50E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F3418C-1D43-4F9B-8F59-10830D6C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7A3-FF6C-4742-8A60-B5F770E5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4EC93D-2909-4DA4-A785-43E98B16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EE702C-F1EA-4182-B0DE-5398519A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9A4C56-CB8B-4712-902D-066F148A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3C707C-032C-43D5-AA30-2DF1335F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69D4A8-5505-4387-A320-653D7F4C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1BB78F-3398-4653-9E18-5EA5D116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BDF29B-CA82-4ED0-8EFD-E1A8E54D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9FA043-C0F2-4614-B0E5-B676300D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BA1C40-112B-41E1-AF1C-C1C9AF65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450A2A-2562-4AD7-B450-54091757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90C2-95EA-46C8-9637-8AA2FAC6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EBF378-B85E-481F-B82A-5B123130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07C19-DC34-4D4C-B870-9CF593E1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2AAD94-1D02-46A9-AA6E-46AA4309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15A66F-1139-4F3D-AD0B-EB829B01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0B803C-02EE-4C0D-AE31-BCBEDB74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D3783F-AB52-45DC-B26D-33009635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6CD9F-5C9D-4309-96BB-71D68180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CC1CC-DD44-4F5C-A659-381520AC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2CD25-9F00-4B7C-B916-F21270E1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1AF81F-E1B3-430B-993C-B1B27F56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CD1-10FC-4718-93DE-94F22B9E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65D2C4-DC09-47BB-9BA8-4EDD4B13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45EACB-218F-4C2E-B54D-B504D229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8D50A7-2371-4EB6-B5E5-2136CBF5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6FA2A3-5B0B-42C7-9220-D4FA7A38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17ED49-B8B1-4812-9786-AFBC7307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44AA69-AA71-45CD-A251-3D0EF4A2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042FDF-1BBD-4B87-A05C-277BE40F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5E4ED3-B114-4351-8C63-4C817C85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B2043C-3E4F-4AF1-A0AD-0F456782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F0F0AD-E3CA-4DEE-A3FC-05EC5C42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3928-F796-4CC7-989B-BCE9889E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A3897C-A583-4586-B8E8-0765481C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C7C88B-EDB6-42D1-873D-2FA9B9A7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3C75AB-F2C6-4AF5-B9A4-BA35AC96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3F72A-FB34-4B84-8E8E-96AA6993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2B30C-6758-420B-9148-D16CB158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F7941-0F8F-4C4A-862F-3D85C568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7A084-8655-40E2-963F-5E3DF368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0C2C1-402F-476A-AC85-6BE60CED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B6434-BCB1-494E-8A85-63FA221B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CEF78-D0CA-4ABE-AA1B-81BBDE02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4437-F39E-49CF-B3C4-48340F6C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FAA78-F819-4675-9D48-1A92546A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CE1F4-56F2-4D11-B0DC-87D95450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21324-3070-45F2-8018-5086A355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182CF-96F6-4148-B1AC-0779163A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23B38-0618-4916-84D8-586FDD1C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5F237-E670-4FFB-8916-EAB46726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620E9-DE87-445C-A6CF-AF727C1B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FA949-304F-4957-92C4-95129948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86D3B-9646-4B71-8E0E-DDC5062A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B393E-0956-4F79-B5A6-7DC356AB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7505-CEA4-4824-B259-5AA92C91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BB3ED-701E-406A-8595-1B49831F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9A159-3AB4-4A2F-ACBA-2DA4AD04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5359A-EB2D-4852-936A-1B14628F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D152A-538B-4439-A431-A54DFA83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7F070-A35E-4EED-9F6C-89D4B2DB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C515D-3322-439B-A572-09856A99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4A2F1-BE2E-434B-AEB7-5784F174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2EF7C-738B-4AF8-A419-6CC682C1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B53D4-F868-42CF-8D13-D568F626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A129D-9C81-44A2-81F6-F467B1B8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Oct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EDEA-0700-425D-BC63-04756593A5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DA27-3CC7-4784-83D6-8F86F3153D76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508D-86BC-45D4-BFA5-BBA3E6CFAE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90DB-5AF6-4018-80F9-EC77A75583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bde"/>
                </a:solidFill>
                <a:latin typeface="Times New Roman"/>
              </a:rPr>
              <a:t>Oct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6880-209B-4778-9EE6-89A88985AA3A}" type="slidenum">
              <a:rPr b="1" lang="en-US" sz="1400" spc="-1" strike="noStrike">
                <a:solidFill>
                  <a:srgbClr val="eaeb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Oct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3FED-93F0-4F81-BF02-F62BA41D9D3B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Oct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2767-90D1-438B-A5F9-777CCF19CF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5B7E-9085-450E-806E-73EB3BF5B0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A24A-DAE4-4E63-8140-5EC323DE8C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EBB5-F97D-41CC-841E-CFA29F6DD21B}" type="slidenum">
              <a:rPr b="1" lang="en-US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7618-A2F4-4076-8388-0B0F72EE174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w Cen MT"/>
              </a:rPr>
              <a:t>Summary C63.5 revision</a:t>
            </a:r>
            <a:endParaRPr b="0" lang="en-US" sz="36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ahoma"/>
              </a:rPr>
              <a:t>Oct 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TextBox 7"/>
          <p:cNvSpPr/>
          <p:nvPr/>
        </p:nvSpPr>
        <p:spPr>
          <a:xfrm>
            <a:off x="914400" y="1676520"/>
            <a:ext cx="70866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G prepared a draft and sent to SC for review in Ju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ple questions and concerns from SC1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ft back with WG for additional work AND a P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G addressing concerns and additional ques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PINS prepared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CHEDULE – draft to SC by February 20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w Cen MT"/>
              </a:rPr>
              <a:t>Summary C63.10 revision</a:t>
            </a:r>
            <a:endParaRPr b="0" lang="en-US" sz="36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ahoma"/>
              </a:rPr>
              <a:t>Oct 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Box 7"/>
          <p:cNvSpPr/>
          <p:nvPr/>
        </p:nvSpPr>
        <p:spPr>
          <a:xfrm>
            <a:off x="914400" y="1676520"/>
            <a:ext cx="7086600" cy="44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63.10-2009 published 9-10-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ve PINS on fi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G met twice with large turnout at each me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 is just beginning for Edition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C63.10 Edition 2, work is progressing in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ments above 1 GH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oadband system measur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RP and ERP measur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ar plots and antenna characteris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transmit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enna array te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ments below 30 MH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ition 1 maintenance i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extBox 5"/>
          <p:cNvSpPr/>
          <p:nvPr/>
        </p:nvSpPr>
        <p:spPr>
          <a:xfrm rot="1288200">
            <a:off x="6064920" y="1974960"/>
            <a:ext cx="2606760" cy="73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kshop offer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vember 4-5, 20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w Cen MT"/>
              </a:rPr>
              <a:t>Summary C63.25 revision</a:t>
            </a:r>
            <a:endParaRPr b="0" lang="en-US" sz="36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ahoma"/>
              </a:rPr>
              <a:t>Oct 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Box 7"/>
          <p:cNvSpPr/>
          <p:nvPr/>
        </p:nvSpPr>
        <p:spPr>
          <a:xfrm>
            <a:off x="914400" y="1676520"/>
            <a:ext cx="7086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tive PINS on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G preparing a draf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surements in process to validat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rget – draft to SC late 201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w Cen MT"/>
              </a:rPr>
              <a:t>Summary C63.26 revision</a:t>
            </a:r>
            <a:endParaRPr b="0" lang="en-US" sz="36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537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ahoma"/>
              </a:rPr>
              <a:t>Oct 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TextBox 7"/>
          <p:cNvSpPr/>
          <p:nvPr/>
        </p:nvSpPr>
        <p:spPr>
          <a:xfrm>
            <a:off x="914400" y="1600200"/>
            <a:ext cx="7086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tive PINS on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G met twice with large turnout at each meet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k is just beginning for this standar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oadmap developed and key tasks identif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itional stake holders being sou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14:44:32Z</dcterms:created>
  <dc:creator>Michael J. Windler</dc:creator>
  <dc:description/>
  <dc:language>en-US</dc:language>
  <cp:lastModifiedBy>Dennis Camell</cp:lastModifiedBy>
  <dcterms:modified xsi:type="dcterms:W3CDTF">2009-10-22T14:30:28Z</dcterms:modified>
  <cp:revision>97</cp:revision>
  <dc:subject/>
  <dc:title>Site Qualifications Above 1GHz Symp03</dc:title>
</cp:coreProperties>
</file>