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EDD-F3F6-4B53-8506-92DAC7FF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E12-ECE8-4048-B987-F5D83D25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B04-D574-4A3F-8AD8-B6DD93A0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F8B-418A-483B-A9AC-8CF39E13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3FB-332C-4846-AEC2-00F4DBAA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90F-71D0-4039-ADDB-9CD4156F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CB92-3A39-4B2E-9DDC-81E39BD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95FA-3D6D-407B-9666-860F3F11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55A7-EF66-4CAC-9ED1-9125400B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B659-6D89-43F2-895A-5AA92B1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D8E-07B5-4D93-8674-15691E6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E1C-87B1-4720-90C0-F508401E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6344-5FF0-48CD-8ECC-41B00E8B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4816-13DF-4A33-B4DA-24F1F28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C726-3E1A-4305-B0D1-8A382EA9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EC4D-63FF-4932-BBB8-2F69C2A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4419-459C-45B8-84CA-9583AB54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E61-1F64-4056-9519-86CCA36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933-AFEA-47BD-A319-3649826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762-56B2-4E54-9983-490E86D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44C-339F-4026-94C6-CA21A55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8AC-1DDE-4942-BC50-0DAE7399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F49-042D-4CCD-B17F-6C698F4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CDA-43C7-4F99-9F4B-37B0E62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6D60-678C-42C6-AD5D-4EB0684F1E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8400" y="97164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25B5-DE47-46D4-A05E-003BE474E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63.23 Update – Edition 1.0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tober 20, 2009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ind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Anticipated Completion of Edition 1.0 – July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nd of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tanding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completen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 – Started but needs updating and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B – Contact to IEC still needs to be coordinated for use of copyright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on use of spreadsheets.  Draft text to be finalized by November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ing Requirements need to be finaliz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63.23 Update – Edition 1.0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tober 20, 2009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reorganized and many terms and definitions moved to informative ann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0:56:09Z</dcterms:created>
  <dc:creator>Bob DeLisi</dc:creator>
  <dc:description/>
  <dc:language>en-US</dc:language>
  <cp:lastModifiedBy>Bob DeLisi</cp:lastModifiedBy>
  <dcterms:modified xsi:type="dcterms:W3CDTF">2009-10-20T16:31:59Z</dcterms:modified>
  <cp:revision>2</cp:revision>
  <dc:subject/>
  <dc:title>C63.23 Update – Edition 1.0 April 17, 2009</dc:title>
</cp:coreProperties>
</file>