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himes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E0F-FDE0-4C97-9FEB-5805778A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81788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3080"/>
            <a:ext cx="81788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02A-8F9C-4D92-B479-FCBF5BED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308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308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80C-5ACF-4A91-B621-39F1BBF7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144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144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308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308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308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EF5-BA40-4EEE-9615-2CFE5BC7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1A95-426C-4DD1-B0F8-154480A4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441440"/>
            <a:ext cx="817884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E7E2-2DC4-484B-8045-21CB748D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8178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43E9-824E-4E85-BC8A-8F04CEA9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E7D6-C848-42BF-A7FA-B00AA897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22EC-050A-44F5-A547-28CD8142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AD16-72B8-4049-BC3C-E459BF6D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85308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E21D-AB18-4D4B-98C9-7600A799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1440"/>
            <a:ext cx="817884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DAC-1F6B-4BD2-9E9E-442D13AB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385308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AF43-B6F1-47D8-B1EA-4FD85C1F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853080"/>
            <a:ext cx="81788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27CE-7D73-4D55-BB49-4FD0BA42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81788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853080"/>
            <a:ext cx="81788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4BED-0454-4EDF-BE71-484EF241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85308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385308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F590-8B5D-475E-AB1E-F8139CB6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44144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44144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85308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385308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3853080"/>
            <a:ext cx="2633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F772-E88E-4591-BE07-A7E01970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8178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04D-A2FB-445F-B7BC-ACC7DE16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C2F-05BA-4BB2-AEB1-C7E678A6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F4E-7A05-45F3-B509-E59FF730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5EE-22B0-41BF-B596-1A315EEA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308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95B-6345-4B3E-967D-63574031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308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33E-CD8A-44DA-B958-D486FC44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1440"/>
            <a:ext cx="39909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3080"/>
            <a:ext cx="817884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1D8-7FD7-47BA-B878-63A79581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1440"/>
            <a:ext cx="8178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6DE8-C81C-4610-993B-39273229D3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8400" y="97164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58BA-E21B-45C9-8640-3BC48CAA29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1441440"/>
            <a:ext cx="81788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Accredited Standards Committee C63® - Electromagnetic Compatibility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C8 Repor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October 22, 2009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52"/>
          <p:cNvGraphicFramePr/>
          <p:nvPr/>
        </p:nvGraphicFramePr>
        <p:xfrm>
          <a:off x="509760" y="1123920"/>
          <a:ext cx="3886200" cy="53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123920"/>
                    <a:ext cx="3886200" cy="53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253"/>
          <p:cNvGraphicFramePr/>
          <p:nvPr/>
        </p:nvGraphicFramePr>
        <p:xfrm>
          <a:off x="4624560" y="1200240"/>
          <a:ext cx="3886200" cy="4649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" name="Object 2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4560" y="1200240"/>
                    <a:ext cx="388620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Box 14"/>
          <p:cNvSpPr/>
          <p:nvPr/>
        </p:nvSpPr>
        <p:spPr>
          <a:xfrm>
            <a:off x="304920" y="2286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C8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4648320" y="5943600"/>
          <a:ext cx="4303440" cy="380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5943600"/>
                    <a:ext cx="4303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C C63® SC8 Upd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04920" y="1676520"/>
            <a:ext cx="8534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of SC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 Web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committee Vice Chair is currently assuming the responsibility of the Subcommittee C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C C63® SC8 Upd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04920" y="1676520"/>
            <a:ext cx="8534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1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I C63.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to comments is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 for comment resolution targeted for November 30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to the main committee at that time for recirculation bal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C C63® SC8 Upd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04920" y="1447920"/>
            <a:ext cx="853416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3: C63.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of new procedures in the draft is currently i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 of the validation testing is targeted to be completed by February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to have document ready for Ballot by March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350640"/>
            <a:ext cx="830592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C C63® SC8 Upda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aison Re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04920" y="900000"/>
            <a:ext cx="853416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8288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286000"/>
            <a:ext cx="76960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EC 60601-1-2 Ed. 4, IEC 6XXXX, Interpretation sheet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rganized a series of five workshops on wireless in health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orked with RFID Experts Group (RE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orking on FDA wireless guid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37160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350640"/>
            <a:ext cx="830592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C C63® SC8 Upda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aison Re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04920" y="900000"/>
            <a:ext cx="853416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8288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057400"/>
            <a:ext cx="769608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EC 60601-1-2 interpretation sh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2A/676/DC (Comment period closes Nov. 2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iterate/clarify that if EMC testing is performed at the line voltage and frequency specified in the standard, testing does not need to be repeated at other voltages or frequ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EC 60601-1-2 Ed. 4 (62A/673/CD – Ballot closes Dec. 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point to IEC 6XXXX (62A/672/NP – Ballot closes Dec. 4) which includes new test methods, limits for low frequency magnetic fields, new tests and limits for patient 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371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EC SC62A MT23 Liaison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55:35Z</dcterms:created>
  <dc:creator>ejm037</dc:creator>
  <dc:description/>
  <dc:language>en-US</dc:language>
  <cp:lastModifiedBy>Bob DeLisi</cp:lastModifiedBy>
  <dcterms:modified xsi:type="dcterms:W3CDTF">2009-10-22T19:48:22Z</dcterms:modified>
  <cp:revision>81</cp:revision>
  <dc:subject/>
  <dc:title>C63 SC8: Motion 1</dc:title>
</cp:coreProperties>
</file>