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027863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C7EA-20A2-4C56-92B2-0ECEF2CCC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63280" y="236160"/>
            <a:ext cx="69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Futura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07840" y="1622160"/>
            <a:ext cx="73134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707840" y="4081680"/>
            <a:ext cx="73134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D13A-9B73-44B3-9E9E-3FB751E0F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63280" y="236160"/>
            <a:ext cx="69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Futura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07840" y="1622160"/>
            <a:ext cx="356868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455440" y="1622160"/>
            <a:ext cx="356868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707840" y="4081680"/>
            <a:ext cx="356868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Medi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55440" y="4081680"/>
            <a:ext cx="356868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56CC-3DE0-4A9B-8EBA-DD1C1851C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63280" y="236160"/>
            <a:ext cx="69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Futura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707840" y="1622160"/>
            <a:ext cx="23547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Medium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180680" y="1622160"/>
            <a:ext cx="23547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Medium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53520" y="1622160"/>
            <a:ext cx="23547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Medium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707840" y="4081680"/>
            <a:ext cx="23547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Medium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180680" y="4081680"/>
            <a:ext cx="23547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Medium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53520" y="4081680"/>
            <a:ext cx="23547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E7C6-97D6-4034-9FBB-31418BCFB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7838E-2A0D-4382-8FB5-245555539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63280" y="236160"/>
            <a:ext cx="69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Futura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707840" y="1622160"/>
            <a:ext cx="73134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DD6E2-1D26-4A1C-9246-B1AD20D36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63280" y="236160"/>
            <a:ext cx="69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FuturaMedium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07840" y="1622160"/>
            <a:ext cx="73134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0ABDC-B42F-4575-8F4D-B51F7E972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63280" y="236160"/>
            <a:ext cx="69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Futura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07840" y="1622160"/>
            <a:ext cx="35686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Medium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455440" y="1622160"/>
            <a:ext cx="35686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CA18A-EE54-4F5A-93DD-FFCA80036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63280" y="236160"/>
            <a:ext cx="69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Futura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7B18F-2A52-49D0-83D6-8528E799A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763280" y="236160"/>
            <a:ext cx="6946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D3993-B573-4C17-A40D-9F659104B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63280" y="236160"/>
            <a:ext cx="69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Futura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07840" y="1622160"/>
            <a:ext cx="356868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Medium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55440" y="1622160"/>
            <a:ext cx="35686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Medium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07840" y="4081680"/>
            <a:ext cx="356868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B1F2F-238A-469B-84BF-9261774A7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63280" y="236160"/>
            <a:ext cx="69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FuturaMedium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707840" y="1622160"/>
            <a:ext cx="73134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B0D7-4B3B-4279-A08F-696CA3D5D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63280" y="236160"/>
            <a:ext cx="69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Futura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07840" y="1622160"/>
            <a:ext cx="35686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Medium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55440" y="1622160"/>
            <a:ext cx="356868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Medium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455440" y="4081680"/>
            <a:ext cx="356868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F86DD-4C3F-48AE-9AA1-8B471D45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63280" y="236160"/>
            <a:ext cx="69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Futura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07840" y="1622160"/>
            <a:ext cx="356868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Medium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455440" y="1622160"/>
            <a:ext cx="356868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Medium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707840" y="4081680"/>
            <a:ext cx="73134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7C740-D69B-465F-BA33-5E9C112BD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63280" y="236160"/>
            <a:ext cx="69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Futura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07840" y="1622160"/>
            <a:ext cx="73134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Mediu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707840" y="4081680"/>
            <a:ext cx="73134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ED7A1-A1DF-4DB6-B003-E6DB584BC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63280" y="236160"/>
            <a:ext cx="69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FuturaMedium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07840" y="1622160"/>
            <a:ext cx="356868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Medium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55440" y="1622160"/>
            <a:ext cx="356868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Medium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707840" y="4081680"/>
            <a:ext cx="356868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Medium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455440" y="4081680"/>
            <a:ext cx="356868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05D60-C86F-4339-B056-A5EF0FE57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63280" y="236160"/>
            <a:ext cx="69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FuturaMedium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07840" y="1622160"/>
            <a:ext cx="23547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Medium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180680" y="1622160"/>
            <a:ext cx="23547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Medium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53520" y="1622160"/>
            <a:ext cx="23547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Medium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707840" y="4081680"/>
            <a:ext cx="23547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Medium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180680" y="4081680"/>
            <a:ext cx="23547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Medium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653520" y="4081680"/>
            <a:ext cx="23547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63BD7-07BF-4F70-BFCA-260DE4157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63280" y="236160"/>
            <a:ext cx="69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Futura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707840" y="1622160"/>
            <a:ext cx="73134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EE24-6165-4C4B-A1E9-3849D7EDF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63280" y="236160"/>
            <a:ext cx="69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Futura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07840" y="1622160"/>
            <a:ext cx="35686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Medi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55440" y="1622160"/>
            <a:ext cx="35686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B747-36D8-4C79-8688-3D85429F9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63280" y="236160"/>
            <a:ext cx="69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Futura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0F67-918E-474C-AC73-3F1B18DF2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763280" y="236160"/>
            <a:ext cx="6946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C885-5835-4EC3-AAEC-65FE68755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63280" y="236160"/>
            <a:ext cx="69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FuturaMedium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707840" y="1622160"/>
            <a:ext cx="356868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Medium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55440" y="1622160"/>
            <a:ext cx="35686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Medium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707840" y="4081680"/>
            <a:ext cx="356868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C03A-FF4B-404E-9F9B-7011022B7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63280" y="236160"/>
            <a:ext cx="69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Futura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07840" y="1622160"/>
            <a:ext cx="35686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Medium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55440" y="1622160"/>
            <a:ext cx="356868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Medium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455440" y="4081680"/>
            <a:ext cx="356868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D1F8-D8AC-4B1B-AC9B-E7C786019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63280" y="236160"/>
            <a:ext cx="69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Futura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07840" y="1622160"/>
            <a:ext cx="356868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Medium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455440" y="1622160"/>
            <a:ext cx="356868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Medium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707840" y="4081680"/>
            <a:ext cx="73134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A5AA-5CAD-4527-A764-A17315879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1904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b2b2b2"/>
                </a:solidFill>
                <a:latin typeface="Arial"/>
              </a:rPr>
              <a:t>&lt;date/time&gt;</a:t>
            </a:r>
            <a:r>
              <a:rPr b="0" i="1" lang="en-US" sz="1400" spc="-1" strike="noStrike">
                <a:solidFill>
                  <a:srgbClr val="b2b2b2"/>
                </a:solidFill>
                <a:latin typeface="Arial"/>
              </a:rPr>
              <a:t>November 16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342880" y="6197760"/>
            <a:ext cx="4591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2880" y="990720"/>
            <a:ext cx="81057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380880" y="321840"/>
            <a:ext cx="6610320" cy="53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 Black"/>
              </a:rPr>
              <a:t>Click to edit the title text format</a:t>
            </a:r>
            <a:endParaRPr b="1" i="1" lang="en-US" sz="28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343080" y="108540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330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33cc"/>
              </a:solidFill>
              <a:latin typeface="Arial"/>
            </a:endParaRPr>
          </a:p>
          <a:p>
            <a:pPr lvl="2" marL="1085760" indent="-228600">
              <a:spcBef>
                <a:spcPts val="649"/>
              </a:spcBef>
              <a:buClr>
                <a:srgbClr val="a50021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33cc"/>
              </a:solidFill>
              <a:latin typeface="Arial"/>
            </a:endParaRPr>
          </a:p>
          <a:p>
            <a:pPr lvl="3" marL="1428840" indent="-228600">
              <a:spcBef>
                <a:spcPts val="649"/>
              </a:spcBef>
              <a:buClr>
                <a:srgbClr val="ff0066"/>
              </a:buClr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33cc"/>
              </a:solidFill>
              <a:latin typeface="Arial"/>
            </a:endParaRPr>
          </a:p>
          <a:p>
            <a:pPr lvl="4" marL="1771560" indent="-228600">
              <a:spcBef>
                <a:spcPts val="649"/>
              </a:spcBef>
              <a:buClr>
                <a:srgbClr val="ff3399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33cc"/>
              </a:solidFill>
              <a:latin typeface="Arial"/>
            </a:endParaRPr>
          </a:p>
          <a:p>
            <a:pPr lvl="5" marL="1771560" indent="-2286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33cc"/>
              </a:solidFill>
              <a:latin typeface="Arial"/>
            </a:endParaRPr>
          </a:p>
          <a:p>
            <a:pPr lvl="6" marL="1771560" indent="-2286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056360" y="6456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96800" y="6210360"/>
            <a:ext cx="8132760" cy="0"/>
          </a:xfrm>
          <a:prstGeom prst="line">
            <a:avLst/>
          </a:prstGeom>
          <a:ln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2330280" y="6248520"/>
            <a:ext cx="42768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b2b2b2"/>
                </a:solidFill>
                <a:latin typeface="Arial Black"/>
              </a:rPr>
              <a:t>BPL Test Procedures &amp; Equipment Author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921000" y="619776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b2b2b2"/>
                </a:solidFill>
                <a:latin typeface="Arial"/>
              </a:rPr>
              <a:t>Slide </a:t>
            </a:r>
            <a:fld id="{331D0E1D-EE1C-411C-857C-79A997C914DF}" type="slidenum">
              <a:rPr b="0" i="1" lang="en-US" sz="14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8024760" y="0"/>
            <a:ext cx="1119240" cy="110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rcRect l="7999" t="0" r="0" b="0"/>
          <a:stretch/>
        </p:blipFill>
        <p:spPr>
          <a:xfrm>
            <a:off x="-3240" y="0"/>
            <a:ext cx="9147240" cy="68882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63280" y="236160"/>
            <a:ext cx="69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FuturaMedium"/>
              </a:rPr>
              <a:t>Click to edit the title text format</a:t>
            </a:r>
            <a:endParaRPr b="1" lang="en-US" sz="3600" spc="-1" strike="noStrike">
              <a:solidFill>
                <a:srgbClr val="ff3300"/>
              </a:solidFill>
              <a:latin typeface="FuturaMedium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707840" y="1622160"/>
            <a:ext cx="73134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Medium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FuturaMedium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Futura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Medium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FuturaMedium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Futura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Medium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FuturaMedium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Futura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Medium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FuturaMedium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FuturaMediu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Medium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FuturaMedium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FuturaMediu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Medium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FuturaMedium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FuturaMediu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Medium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FuturaMedium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379520" cy="14479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51840" y="6416640"/>
            <a:ext cx="19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FuturaMediu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uturaMedium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FuturaMedium"/>
              </a:rPr>
              <a:t>October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FuturaMediu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uturaMedium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FuturaMediu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DC727-4753-4865-9AB0-48D5CF7DB627}" type="slidenum">
              <a:rPr b="0" lang="en-US" sz="1400" spc="-1" strike="noStrike">
                <a:solidFill>
                  <a:srgbClr val="000000"/>
                </a:solidFill>
                <a:latin typeface="FuturaMediu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FuturaMedium"/>
              </a:rPr>
              <a:t>FCC Status Report</a:t>
            </a:r>
            <a:br>
              <a:rPr sz="3600"/>
            </a:br>
            <a:endParaRPr b="1" lang="en-US" sz="3600" spc="-1" strike="noStrike">
              <a:solidFill>
                <a:srgbClr val="ff3300"/>
              </a:solidFill>
              <a:latin typeface="Futura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Medium"/>
              </a:rPr>
              <a:t>Laboratory Division</a:t>
            </a:r>
            <a:endParaRPr b="0" lang="en-US" sz="2800" spc="-1" strike="noStrike">
              <a:solidFill>
                <a:srgbClr val="000000"/>
              </a:solidFill>
              <a:latin typeface="FuturaMedium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Medium"/>
              </a:rPr>
              <a:t>Office of Engineering and Technology</a:t>
            </a:r>
            <a:endParaRPr b="0" lang="en-US" sz="2800" spc="-1" strike="noStrike">
              <a:solidFill>
                <a:srgbClr val="000000"/>
              </a:solidFill>
              <a:latin typeface="FuturaMedium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Medium"/>
              </a:rPr>
              <a:t>Federal Communications Commission</a:t>
            </a:r>
            <a:endParaRPr b="0" lang="en-US" sz="2800" spc="-1" strike="noStrike">
              <a:solidFill>
                <a:srgbClr val="000000"/>
              </a:solidFill>
              <a:latin typeface="FuturaMedium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795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63280" y="236160"/>
            <a:ext cx="69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FuturaMedium"/>
              </a:rPr>
              <a:t>Equipment Authorization Trend</a:t>
            </a:r>
            <a:endParaRPr b="1" lang="en-US" sz="3200" spc="-1" strike="noStrike">
              <a:solidFill>
                <a:srgbClr val="ff3300"/>
              </a:solidFill>
              <a:latin typeface="FuturaMedium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708200" y="1622520"/>
          <a:ext cx="7004160" cy="2277720"/>
        </p:xfrm>
        <a:graphic>
          <a:graphicData uri="http://schemas.openxmlformats.org/drawingml/2006/table">
            <a:tbl>
              <a:tblPr/>
              <a:tblGrid>
                <a:gridCol w="1997280"/>
                <a:gridCol w="1669320"/>
                <a:gridCol w="1666440"/>
                <a:gridCol w="1671120"/>
              </a:tblGrid>
              <a:tr h="474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uturaMedium"/>
                        </a:rPr>
                        <a:t>Ye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uturaMedium"/>
                        </a:rPr>
                        <a:t>FCC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uturaMedium"/>
                        </a:rPr>
                        <a:t>TC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uturaMedium"/>
                        </a:rPr>
                        <a:t>PB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uturaMedium"/>
                        </a:rPr>
                        <a:t>Non- PB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uturaMedium"/>
                        </a:rPr>
                        <a:t>20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uturaMedium"/>
                        </a:rPr>
                        <a:t>3.80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uturaMedium"/>
                        </a:rPr>
                        <a:t>1.00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uturaMedium"/>
                        </a:rPr>
                        <a:t>95.20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4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uturaMedium"/>
                        </a:rPr>
                        <a:t>2009 (YT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uturaMedium"/>
                        </a:rPr>
                        <a:t>1.89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uturaMedium"/>
                        </a:rPr>
                        <a:t>1.88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uturaMedium"/>
                        </a:rPr>
                        <a:t>96.22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07840" y="4436640"/>
            <a:ext cx="73134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Medium"/>
              </a:rPr>
              <a:t>More Applications approved through PBA</a:t>
            </a:r>
            <a:endParaRPr b="0" lang="en-US" sz="2400" spc="-1" strike="noStrike">
              <a:solidFill>
                <a:srgbClr val="000000"/>
              </a:solidFill>
              <a:latin typeface="FuturaMedium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Medium"/>
              </a:rPr>
              <a:t>Applications based on Exclusion List going down</a:t>
            </a:r>
            <a:endParaRPr b="0" lang="en-US" sz="2400" spc="-1" strike="noStrike">
              <a:solidFill>
                <a:srgbClr val="000000"/>
              </a:solidFill>
              <a:latin typeface="FuturaMedium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Medium"/>
              </a:rPr>
              <a:t>Expect to continue this trend</a:t>
            </a:r>
            <a:endParaRPr b="0" lang="en-US" sz="2400" spc="-1" strike="noStrike">
              <a:solidFill>
                <a:srgbClr val="000000"/>
              </a:solidFill>
              <a:latin typeface="FuturaMedium"/>
            </a:endParaRPr>
          </a:p>
        </p:txBody>
      </p:sp>
      <p:sp>
        <p:nvSpPr>
          <p:cNvPr id="116" name=""/>
          <p:cNvSpPr/>
          <p:nvPr/>
        </p:nvSpPr>
        <p:spPr>
          <a:xfrm>
            <a:off x="4789440" y="1922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89440" y="1922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789440" y="1922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789440" y="1922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80676-5620-403C-B91B-B8A2961770B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63280" y="236160"/>
            <a:ext cx="69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FuturaMedium"/>
              </a:rPr>
              <a:t>Recent Notices</a:t>
            </a:r>
            <a:endParaRPr b="1" lang="en-US" sz="3600" spc="-1" strike="noStrike">
              <a:solidFill>
                <a:srgbClr val="ff3300"/>
              </a:solidFill>
              <a:latin typeface="Futura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07840" y="1622160"/>
            <a:ext cx="73134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Medium"/>
              </a:rPr>
              <a:t>10/16/09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FuturaMedium"/>
              </a:rPr>
              <a:t>FCC's Office of Engineering and Technology Releases Laboratory Report on Technical Testing of DTV Converter Boxes for Certification under NTIA's Coupon Program.</a:t>
            </a:r>
            <a:endParaRPr b="0" lang="en-US" sz="2400" spc="-1" strike="noStrike">
              <a:solidFill>
                <a:srgbClr val="000000"/>
              </a:solidFill>
              <a:latin typeface="FuturaMedium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Medium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Medium"/>
              </a:rPr>
              <a:t>9/14/09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FuturaMedium"/>
              </a:rPr>
              <a:t>Office of Engineering and Technology Seeks Public Comments on Qualifying Information for Recognizing Laboratory Accreditation Bodies and ACLASS Application for Recognition.</a:t>
            </a:r>
            <a:endParaRPr b="0" lang="en-US" sz="2400" spc="-1" strike="noStrike">
              <a:solidFill>
                <a:srgbClr val="000000"/>
              </a:solidFill>
              <a:latin typeface="Futura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6CE91-68FB-46EC-BEA2-B6AA2F23D55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63280" y="236160"/>
            <a:ext cx="69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FuturaMedium"/>
              </a:rPr>
              <a:t>Reference to C63</a:t>
            </a:r>
            <a:r>
              <a:rPr b="1" lang="en-US" sz="3600" spc="-1" strike="noStrike" baseline="30000">
                <a:solidFill>
                  <a:srgbClr val="ff3300"/>
                </a:solidFill>
                <a:latin typeface="FuturaMedium"/>
              </a:rPr>
              <a:t>®</a:t>
            </a:r>
            <a:r>
              <a:rPr b="1" lang="en-US" sz="3600" spc="-1" strike="noStrike">
                <a:solidFill>
                  <a:srgbClr val="ff3300"/>
                </a:solidFill>
                <a:latin typeface="FuturaMedium"/>
              </a:rPr>
              <a:t> Standards</a:t>
            </a:r>
            <a:endParaRPr b="1" lang="en-US" sz="3600" spc="-1" strike="noStrike">
              <a:solidFill>
                <a:srgbClr val="ff3300"/>
              </a:solidFill>
              <a:latin typeface="Futura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07840" y="1622160"/>
            <a:ext cx="73134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Medium"/>
              </a:rPr>
              <a:t>C63.4-2009</a:t>
            </a:r>
            <a:endParaRPr b="0" lang="en-US" sz="2800" spc="-1" strike="noStrike">
              <a:solidFill>
                <a:srgbClr val="000000"/>
              </a:solidFill>
              <a:latin typeface="FuturaMedium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Medium"/>
              </a:rPr>
              <a:t>C63.10-2009</a:t>
            </a:r>
            <a:endParaRPr b="0" lang="en-US" sz="2800" spc="-1" strike="noStrike">
              <a:solidFill>
                <a:srgbClr val="000000"/>
              </a:solidFill>
              <a:latin typeface="Futura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6641F-7118-4C60-8E22-3A6853F86B6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63280" y="236160"/>
            <a:ext cx="69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FuturaMedium"/>
              </a:rPr>
              <a:t>FCC Initiatives</a:t>
            </a:r>
            <a:endParaRPr b="1" lang="en-US" sz="3600" spc="-1" strike="noStrike">
              <a:solidFill>
                <a:srgbClr val="ff3300"/>
              </a:solidFill>
              <a:latin typeface="Futura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07840" y="1622160"/>
            <a:ext cx="73134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Medium"/>
              </a:rPr>
              <a:t>Broadband Initiatives</a:t>
            </a:r>
            <a:endParaRPr b="0" lang="en-US" sz="2400" spc="-1" strike="noStrike">
              <a:solidFill>
                <a:srgbClr val="000000"/>
              </a:solidFill>
              <a:latin typeface="Futura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utura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Medium"/>
              </a:rPr>
              <a:t>Spectrum and Innovation NOIs</a:t>
            </a:r>
            <a:endParaRPr b="0" lang="en-US" sz="2000" spc="-1" strike="noStrike">
              <a:solidFill>
                <a:srgbClr val="000000"/>
              </a:solidFill>
              <a:latin typeface="Futura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utura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Medium"/>
              </a:rPr>
              <a:t>Number of workshops and discussions </a:t>
            </a:r>
            <a:endParaRPr b="0" lang="en-US" sz="2000" spc="-1" strike="noStrike">
              <a:solidFill>
                <a:srgbClr val="000000"/>
              </a:solidFill>
              <a:latin typeface="Futura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utura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Medium"/>
              </a:rPr>
              <a:t>Review of all of our current procedures</a:t>
            </a:r>
            <a:endParaRPr b="0" lang="en-US" sz="2000" spc="-1" strike="noStrike">
              <a:solidFill>
                <a:srgbClr val="000000"/>
              </a:solidFill>
              <a:latin typeface="FuturaMedium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Medium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Medium"/>
              </a:rPr>
              <a:t>Plans for updating FCC Web presence</a:t>
            </a:r>
            <a:endParaRPr b="0" lang="en-US" sz="2400" spc="-1" strike="noStrike">
              <a:solidFill>
                <a:srgbClr val="000000"/>
              </a:solidFill>
              <a:latin typeface="Futura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utura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Medium"/>
              </a:rPr>
              <a:t>Web 2.0 tools</a:t>
            </a:r>
            <a:endParaRPr b="0" lang="en-US" sz="2000" spc="-1" strike="noStrike">
              <a:solidFill>
                <a:srgbClr val="000000"/>
              </a:solidFill>
              <a:latin typeface="Futura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utura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Medium"/>
              </a:rPr>
              <a:t>Interactive tools</a:t>
            </a:r>
            <a:endParaRPr b="0" lang="en-US" sz="2000" spc="-1" strike="noStrike">
              <a:solidFill>
                <a:srgbClr val="000000"/>
              </a:solidFill>
              <a:latin typeface="Futura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utura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Medium"/>
              </a:rPr>
              <a:t>Modify various websites</a:t>
            </a:r>
            <a:endParaRPr b="0" lang="en-US" sz="2000" spc="-1" strike="noStrike">
              <a:solidFill>
                <a:srgbClr val="000000"/>
              </a:solidFill>
              <a:latin typeface="FuturaMedium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Medium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Medium"/>
              </a:rPr>
              <a:t>Long term changes coming to EA web pages</a:t>
            </a:r>
            <a:endParaRPr b="0" lang="en-US" sz="2400" spc="-1" strike="noStrike">
              <a:solidFill>
                <a:srgbClr val="000000"/>
              </a:solidFill>
              <a:latin typeface="Futura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235AA-B961-42DB-9508-DB83F0DA776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63280" y="236160"/>
            <a:ext cx="69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FuturaMedium"/>
              </a:rPr>
              <a:t>Draft Comment Proposal</a:t>
            </a:r>
            <a:endParaRPr b="1" lang="en-US" sz="3600" spc="-1" strike="noStrike">
              <a:solidFill>
                <a:srgbClr val="ff3300"/>
              </a:solidFill>
              <a:latin typeface="FuturaMedium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708200" y="1622520"/>
            <a:ext cx="7313400" cy="4708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99B66-BAB6-4E51-84F8-E644AEF6116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63280" y="236160"/>
            <a:ext cx="69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FuturaMedium"/>
              </a:rPr>
              <a:t>Draft Publications </a:t>
            </a:r>
            <a:endParaRPr b="1" lang="en-US" sz="3600" spc="-1" strike="noStrike">
              <a:solidFill>
                <a:srgbClr val="ff3300"/>
              </a:solidFill>
              <a:latin typeface="Futura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07840" y="1622160"/>
            <a:ext cx="73134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Medium"/>
              </a:rPr>
              <a:t>15.103 Appliances</a:t>
            </a:r>
            <a:endParaRPr b="0" lang="en-US" sz="2000" spc="-1" strike="noStrike">
              <a:solidFill>
                <a:srgbClr val="000000"/>
              </a:solidFill>
              <a:latin typeface="FuturaMedium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Medium"/>
              </a:rPr>
              <a:t>Software Defined Radios</a:t>
            </a:r>
            <a:endParaRPr b="0" lang="en-US" sz="2000" spc="-1" strike="noStrike">
              <a:solidFill>
                <a:srgbClr val="000000"/>
              </a:solidFill>
              <a:latin typeface="FuturaMedium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Medium"/>
              </a:rPr>
              <a:t>15.231 Transmitters on Multiple Frequencies</a:t>
            </a:r>
            <a:endParaRPr b="0" lang="en-US" sz="2000" spc="-1" strike="noStrike">
              <a:solidFill>
                <a:srgbClr val="000000"/>
              </a:solidFill>
              <a:latin typeface="FuturaMedium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Medium"/>
              </a:rPr>
              <a:t>Users Manual in Electronic Form</a:t>
            </a:r>
            <a:endParaRPr b="0" lang="en-US" sz="2000" spc="-1" strike="noStrike">
              <a:solidFill>
                <a:srgbClr val="000000"/>
              </a:solidFill>
              <a:latin typeface="FuturaMedium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Medium"/>
              </a:rPr>
              <a:t>Part 90Z (3650 – 3700 MHz) CBP Requirements</a:t>
            </a:r>
            <a:endParaRPr b="0" lang="en-US" sz="2000" spc="-1" strike="noStrike">
              <a:solidFill>
                <a:srgbClr val="000000"/>
              </a:solidFill>
              <a:latin typeface="FuturaMedium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Medium"/>
              </a:rPr>
              <a:t>Confidentiality</a:t>
            </a:r>
            <a:endParaRPr b="0" lang="en-US" sz="2000" spc="-1" strike="noStrike">
              <a:solidFill>
                <a:srgbClr val="000000"/>
              </a:solidFill>
              <a:latin typeface="FuturaMedium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Medium"/>
              </a:rPr>
              <a:t>Permit But Ask Procedure</a:t>
            </a:r>
            <a:endParaRPr b="0" lang="en-US" sz="2000" spc="-1" strike="noStrike">
              <a:solidFill>
                <a:srgbClr val="000000"/>
              </a:solidFill>
              <a:latin typeface="FuturaMedium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Medium"/>
              </a:rPr>
              <a:t>TCB Exclusion List</a:t>
            </a:r>
            <a:endParaRPr b="0" lang="en-US" sz="2000" spc="-1" strike="noStrike">
              <a:solidFill>
                <a:srgbClr val="000000"/>
              </a:solidFill>
              <a:latin typeface="FuturaMedium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Medium"/>
              </a:rPr>
              <a:t>Wireless Charger Guidance</a:t>
            </a:r>
            <a:endParaRPr b="0" lang="en-US" sz="2000" spc="-1" strike="noStrike">
              <a:solidFill>
                <a:srgbClr val="000000"/>
              </a:solidFill>
              <a:latin typeface="FuturaMedium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Medium"/>
              </a:rPr>
              <a:t>SAR Measurement Procedure Updates / Guidance</a:t>
            </a:r>
            <a:endParaRPr b="0" lang="en-US" sz="2000" spc="-1" strike="noStrike">
              <a:solidFill>
                <a:srgbClr val="000000"/>
              </a:solidFill>
              <a:latin typeface="FuturaMedium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Futura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Medium"/>
              </a:rPr>
              <a:t>HSPA</a:t>
            </a:r>
            <a:endParaRPr b="0" lang="en-US" sz="1800" spc="-1" strike="noStrike">
              <a:solidFill>
                <a:srgbClr val="000000"/>
              </a:solidFill>
              <a:latin typeface="FuturaMedium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Futura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Medium"/>
              </a:rPr>
              <a:t>Notebook / Netbook</a:t>
            </a:r>
            <a:endParaRPr b="0" lang="en-US" sz="1800" spc="-1" strike="noStrike">
              <a:solidFill>
                <a:srgbClr val="000000"/>
              </a:solidFill>
              <a:latin typeface="FuturaMedium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Futura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Medium"/>
              </a:rPr>
              <a:t>Dipole Calibration Procedure</a:t>
            </a:r>
            <a:endParaRPr b="0" lang="en-US" sz="1800" spc="-1" strike="noStrike">
              <a:solidFill>
                <a:srgbClr val="000000"/>
              </a:solidFill>
              <a:latin typeface="FuturaMedium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Futura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Medium"/>
              </a:rPr>
              <a:t>USB Dongle</a:t>
            </a:r>
            <a:endParaRPr b="0" lang="en-US" sz="1800" spc="-1" strike="noStrike">
              <a:solidFill>
                <a:srgbClr val="000000"/>
              </a:solidFill>
              <a:latin typeface="FuturaMedium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Futura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Medium"/>
              </a:rPr>
              <a:t>WiMax Test Procedures</a:t>
            </a:r>
            <a:endParaRPr b="0" lang="en-US" sz="1800" spc="-1" strike="noStrike">
              <a:solidFill>
                <a:srgbClr val="000000"/>
              </a:solidFill>
              <a:latin typeface="Futura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CAF11-0205-4E76-92F0-B27D886E818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63280" y="236160"/>
            <a:ext cx="69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FuturaMedium"/>
              </a:rPr>
              <a:t>Draft Presentations</a:t>
            </a:r>
            <a:endParaRPr b="1" lang="en-US" sz="3600" spc="-1" strike="noStrike">
              <a:solidFill>
                <a:srgbClr val="ff3300"/>
              </a:solidFill>
              <a:latin typeface="FuturaMedium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73134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Medium"/>
              </a:rPr>
              <a:t>Administrative Issues</a:t>
            </a:r>
            <a:endParaRPr b="0" lang="en-US" sz="2800" spc="-1" strike="noStrike">
              <a:solidFill>
                <a:srgbClr val="000000"/>
              </a:solidFill>
              <a:latin typeface="FuturaMedium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Medium"/>
              </a:rPr>
              <a:t>KDB Electronic Filing</a:t>
            </a:r>
            <a:r>
              <a:rPr b="0" lang="en-US" sz="2800" spc="-1" strike="noStrike">
                <a:solidFill>
                  <a:srgbClr val="000000"/>
                </a:solidFill>
                <a:latin typeface="FuturaMedium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FuturaMedium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Medium"/>
              </a:rPr>
              <a:t>Electronic Filing (Two Parts)</a:t>
            </a:r>
            <a:endParaRPr b="0" lang="en-US" sz="2800" spc="-1" strike="noStrike">
              <a:solidFill>
                <a:srgbClr val="000000"/>
              </a:solidFill>
              <a:latin typeface="FuturaMedium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Medium"/>
              </a:rPr>
              <a:t>Unlicensed Transmitter Review Guide</a:t>
            </a:r>
            <a:endParaRPr b="0" lang="en-US" sz="2800" spc="-1" strike="noStrike">
              <a:solidFill>
                <a:srgbClr val="000000"/>
              </a:solidFill>
              <a:latin typeface="FuturaMedium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Medium"/>
              </a:rPr>
              <a:t>Licensed Transmitter Review Guide</a:t>
            </a:r>
            <a:endParaRPr b="0" lang="en-US" sz="2800" spc="-1" strike="noStrike">
              <a:solidFill>
                <a:srgbClr val="000000"/>
              </a:solidFill>
              <a:latin typeface="Futura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76F57-0D35-41CC-925D-77FB8E185AD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63280" y="236520"/>
            <a:ext cx="7056360" cy="96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FuturaMedium"/>
              </a:rPr>
              <a:t>Equipment Authorization Certification Trends (2001 – 2009)</a:t>
            </a:r>
            <a:endParaRPr b="1" lang="en-US" sz="2400" spc="-1" strike="noStrike">
              <a:solidFill>
                <a:srgbClr val="ff3300"/>
              </a:solidFill>
              <a:latin typeface="FuturaMedium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896760" y="1258920"/>
          <a:ext cx="7850520" cy="491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6760" y="1258920"/>
                    <a:ext cx="7850520" cy="491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15AB1-633F-436A-8678-59BFD3B6E14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63280" y="236160"/>
            <a:ext cx="69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FuturaMedium"/>
              </a:rPr>
              <a:t>Equipment Authorization Trend </a:t>
            </a:r>
            <a:br>
              <a:rPr sz="3200"/>
            </a:br>
            <a:r>
              <a:rPr b="1" lang="en-US" sz="3200" spc="-1" strike="noStrike">
                <a:solidFill>
                  <a:srgbClr val="ff3300"/>
                </a:solidFill>
                <a:latin typeface="FuturaMedium"/>
              </a:rPr>
              <a:t>Behind the numbers</a:t>
            </a:r>
            <a:endParaRPr b="1" lang="en-US" sz="3200" spc="-1" strike="noStrike">
              <a:solidFill>
                <a:srgbClr val="ff3300"/>
              </a:solidFill>
              <a:latin typeface="FuturaMedium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977760" y="2178000"/>
            <a:ext cx="7715520" cy="34336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92280" y="5832360"/>
            <a:ext cx="7238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5846760"/>
            <a:ext cx="82630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Medium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FuturaMedium"/>
              </a:rPr>
              <a:t>Numbers represent approved applications – not including dismissals for administrative purpo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424320" y="155088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Medium"/>
              </a:rPr>
              <a:t>Approved Applications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A9E9E-56FB-4CBF-A853-019467130D1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cp:lastPrinted>2001-02-23T21:13:43Z</cp:lastPrinted>
  <dcterms:modified xsi:type="dcterms:W3CDTF">2009-10-22T16:19:16Z</dcterms:modified>
  <cp:revision>0</cp:revision>
  <dc:subject/>
  <dc:title>No Slide Title</dc:title>
</cp:coreProperties>
</file>