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D4A-1CB6-4BD6-8DBC-CE6081AC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6E2-230F-4E58-BE3C-954C4894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53200-DD72-45DB-949C-C79E0C0B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79C48-3B05-4367-B75F-28BDFA40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A989A-7E7D-4F7E-8DA6-5A83E21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02A57-382D-4FE7-9200-8169F4B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5FBCE-33B3-4D66-8A9E-760C34C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66703-FE1E-460B-AC95-FD0BC4DB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ADF23-75D7-4451-95FF-B2232E8B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D3CB9-A215-43C1-9C7B-29167C78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D16BE-85C0-4C74-870D-6556CE76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A265C-998F-4096-8E84-C1142CE5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EFB-4304-4B01-8E38-5F75E4D1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F961E-E479-4BCE-88D1-D9805AFD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39068-B5E4-4BDC-84D9-837B95C9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EB945-122C-4893-AC3F-3FD45840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D49BA-7BD5-4933-8DA4-B8C794D0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AAFCD-FBA0-4F0B-B456-C6A3A126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0AC03-EFB0-44CD-9A38-D4C67AA1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5480B-6642-48BD-A88A-DA11BC56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7813F-3340-4918-97C1-21B7B509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BCBF9-E08B-4F7F-BBF3-59DFB47F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1A793-FD2C-4834-AA8A-D11637D6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B16-2974-48E1-9BB2-ADBD3B4A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106F0-B597-47C1-8E88-64E5AF09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C452-8BC6-4F27-8810-BA537EDF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448E-76BC-41CE-9B94-2FA81207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99BD-C3A0-48CC-96AC-B3930721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159E-02D8-4101-93A6-60104544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EC1-E948-49FE-BA74-85E1EC8C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DB45-F62D-4F45-81B7-8530C9D8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89EC-02BB-4C2E-8A33-41AAE0B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418-C6FF-4D20-9B08-7DC2CDB7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4EB4-9881-4116-9B96-4BF198F1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DD45-0629-48AE-8205-440D932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1E22-59D3-4FCD-B176-482BC23B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2CB7-6893-4407-80FE-599D9718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0D16-EF36-4CBF-A4B1-B7A65938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884E-A88C-4DB6-ABCF-C9BAAC73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28CF-13E8-4CF6-8D39-91A3231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25A3-66A6-4A7F-BACF-B0869481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4833-E668-4AD8-A953-CCA0C9DC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A6FB-306A-4834-ABC3-D6A08B8B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DB4-891A-44A0-820D-A400CB1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D864-B90E-4DCF-8862-C1A712FF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7545-F0B6-4AEA-BB0D-936CF0F2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398B-088D-47E1-A4FD-F4C914DA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0113-6121-4E2D-92DA-D1480A02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5C87-8F3B-46CC-B62C-010A868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19E7-DE10-4635-9947-55D72C24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8AA1-33FC-47AE-8ABF-7B4685AF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5E85-5917-4804-9889-0ECD3D0F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41E3-77B7-47D2-8AE9-E5CD8C9D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C524-43C0-4583-9A1A-36C7C7C6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2BB-E42C-4647-9EAC-31210E8B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A4A6-D283-4372-B816-B2DAF4CE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B226-BEAB-4CAF-B3B1-D0CD6ABA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5D35-F785-40EF-8EAE-6DA5B51A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4D410-4621-47FB-AAFD-1CBCD91C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A5E7-B49C-4AFB-B5BA-7C86548A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BB610-A0A2-4806-96CE-2B4D769A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ACDC-77B6-4283-B6AC-77355D7F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CFC5-3063-44BE-A630-B3EC2533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C792-1C8F-4C55-BE1A-95B8E007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65F0B-6993-4F1D-8378-951CEFD8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64C-C23B-4D9C-AC3B-F85FD32E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72786-B0C0-4B8D-9B19-2F23A502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D7F7-AE24-4C73-B9C4-6A7ED9E2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351E1-3019-41AB-8DA4-DBAF25F8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1F99-D3DA-4521-A8CB-689FFA06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5FE6-3A63-4121-AA10-C72DF7D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A9DAA-5F24-4CFB-80EB-AC32CBF4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4A0A-950D-4C99-B0A6-86159A1A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151C1-34CE-48D3-9828-4D6695E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4C38-AAB7-46C0-B571-C5E5B44B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822A-7060-4737-BD8F-0613336F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92E-6D01-425D-BACF-B2C79A75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F609C-BDB0-49F2-A0CE-9D5DC241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57871-8E2F-4024-829C-9296C70C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2261-284C-49FD-811D-A20E369C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21527-695D-4D5B-8D53-91515BBD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F1F4A-6B58-4557-91AE-2209A9D0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EB7F4-E0F4-4E75-8805-109B3F06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57ED9-9A3E-41F6-9E11-C46474BC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6A63F-DDFD-4B89-B7BA-8FAD325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33C04-8980-494F-AD8B-46E4CC12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5D22C-FDD0-4505-BDD9-72CFC9E6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502-7F16-433C-8D1F-2E8C46C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1E1B7-3B27-4CF0-ADAB-27D34566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C5808-AF17-4C62-A891-D637A8B9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2D118-113D-4B28-8D7B-F324BC57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C5471-71E3-40B2-8D93-55CE3491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DC618-2443-4276-BDBB-1F59EE92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21B7-FECC-454E-AED4-C34921E8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E8B7F-584E-4A58-8A35-55DD6ED8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E138-BCA6-4221-8B12-B0E3EEE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4010-B7A4-4A86-AFAA-FEBE483B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503A2-98A9-466E-AE1D-004C9BC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8E0-BF44-411A-81F4-E5F03B6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62D4-0C40-4E9D-9BCF-9AD3607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CBC65-60A1-4C5F-B32F-A37C82E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02B3A-6878-4B36-881E-F0CD3089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34A1D-F25B-47EC-B6FB-F1E8B873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39AA9-A59D-431D-81B9-DAE7D383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33858-23D6-4BF0-A9BE-77DB810A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8F7B2-947C-44BF-8D4F-23FFF06E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7AB7-B741-40C4-9AC2-6016ADC7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74CFE-DE37-4592-AFCC-E896AB54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28A7-8D4C-4DA0-B1A0-F2B312B6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3E1-57F1-49EC-873D-C0503829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8128F-651C-4F5E-BE85-94460153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9BE9C-3B1F-4E68-ACBB-52ADFC5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43E91-E671-4EAD-8023-AC6FD4EE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26FC5-EFBC-4FB9-A9D1-ADC7075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588D-1400-4EA9-B8D6-A892C454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7274-D125-4AC4-B6A6-2337E328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315DF-E11F-4829-89EC-60CE1654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8AB5A-217E-4546-9D28-7D40F47E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89187-5134-4B31-AE39-F66323CD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397E7-E90E-470C-9BCE-2BA37175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ugust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easurement of Radio Noise Emissions Workshop, C63.4 (2009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AC3C8C23-BE91-4050-BBB6-8D29754562FC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ugust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easurement of Radio Noise Emissions Workshop, C63.4 (2009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5D187B0B-9DE0-4CCE-A7AD-24C7739E12C5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ovem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NSI C63.10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Testing Unlicensed Wireless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69F5D3FF-40FD-4147-A103-3A4FE68B8CFE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ugust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easurement of Radio Noise Emissions Workshop, C63.4 (2009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838687EC-533E-4444-A871-5DC95612172B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ugust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easurement of Radio Noise Emissions Workshop, C63.4 (2009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8105E08C-D054-4293-A0C9-A001D8C5873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ovem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NSI C63.10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Testing Unlicensed Wireless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29CE2791-9110-4666-BC6B-8AA4C5BB4267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ovem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NSI C63.10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Testing Unlicensed Wireless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FE5FD22F-A8E8-4EEE-A940-ABC7581BF7D0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ugust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easurement of Radio Noise Emissions Workshop, C63.4 (2009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29090B87-A15D-43CB-A3A6-4EEEF649340C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ovem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NSI C63.10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Testing Unlicensed Wireless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50021058-7358-4BE5-8027-5BA36CA0E911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1447920"/>
            <a:ext cx="7848720" cy="7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ugust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52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easurement of Radio Noise Emissions Workshop, C63.4 (2009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36AA1BBF-147F-4A10-ACFD-C4824EE605D2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opyright 2009 US E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s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arte.org/" TargetMode="Externa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andards.ieee.org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C C63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®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Repo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tandards Statu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Agenda Items 4.2, 4.9, 4.10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Don Heirman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Chair, ASC C63</a:t>
            </a:r>
            <a:r>
              <a:rPr b="1" lang="en-US" sz="2800" spc="-1" strike="noStrike" baseline="30000">
                <a:solidFill>
                  <a:srgbClr val="996600"/>
                </a:solidFill>
                <a:latin typeface="Arial"/>
                <a:ea typeface="Arial"/>
              </a:rPr>
              <a:t>®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2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ctober 22,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6688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SC C63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® meeting at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Boulder,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A4D5648B-695A-4900-824B-69ACA8FF8031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63.10 Workshop on 4-5 November in RTP, NC at U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eatures demonstrations of transmitters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upported by iNARTE 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More information on 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narte.org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ee announcement at top of home page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Pass the word among your colleagues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nsidering repeat late spring in midwest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63.4/C63.5 at 2010 EMC Symposium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Measurement uncertainty using C63.23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te validation using new time domain techniques in C63.25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63.18/C63.24 on-site product testing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Others opportunities that might present themselve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ndards Stat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63.4—Emission measurements Published 15 Sept 2009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Order on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tandards.ieee.org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and to to “shop” and then type in standard number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Reference to C63.5-2006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New requirements on video displays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LISN calibration improvements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Cautions on use of spectrum analyzers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ndards Stat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63.15—Immunity testing and instrumentation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t ANSI Board of Standards Review for approva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Publication expected this year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ndards Statu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63.16—ESD measurement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resently withdrawn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greed to reactivate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Keep those parts that are not covered in IEC 61000-4-2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Possible cooperation with ESD Association suggested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C C63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®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Repo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teering Committee activity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Agenda Item 8.2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Don Heirman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Chair, ASC C63</a:t>
            </a:r>
            <a:r>
              <a:rPr b="1" lang="en-US" sz="2800" spc="-1" strike="noStrike" baseline="30000">
                <a:solidFill>
                  <a:srgbClr val="996600"/>
                </a:solidFill>
                <a:latin typeface="Arial"/>
                <a:ea typeface="Arial"/>
              </a:rPr>
              <a:t>®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3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ctober 22,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266688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SC C63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® meeting at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Boulder,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30EED4F8-8526-4CD4-8858-5B9E95902E14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tems cover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tandards Status Web presence and updating, and improvement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Name organizational membership reps procedure and addition of alternate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Amending operational procedure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INS and PINS-C statu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IEEE contract payment review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chedule for April 2010 meeting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C C63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®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Repo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Registered Trade Mark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Agenda item 9.1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Don Heirman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Chair, ASC C63</a:t>
            </a:r>
            <a:r>
              <a:rPr b="1" lang="en-US" sz="2800" spc="-1" strike="noStrike" baseline="30000">
                <a:solidFill>
                  <a:srgbClr val="996600"/>
                </a:solidFill>
                <a:latin typeface="Arial"/>
                <a:ea typeface="Arial"/>
              </a:rPr>
              <a:t>®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ctober 22,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SC C63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® meeting at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Boulder,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5FED3B64-7DAA-46B1-9095-4A0ECFF1C26D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C C63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®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Repo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45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ctober 22,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266688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SC C63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® meeting at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Boulder,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382EABB5-4EA8-489C-816A-70E99E8371F9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057400" y="2440080"/>
            <a:ext cx="5486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C C63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®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Repo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uture Seminars and Workshop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996600"/>
                </a:solidFill>
                <a:latin typeface="Arial"/>
              </a:rPr>
              <a:t>Agenda 11.1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Don Heirman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Chair, ASC C63</a:t>
            </a:r>
            <a:r>
              <a:rPr b="1" lang="en-US" sz="2800" spc="-1" strike="noStrike" baseline="30000">
                <a:solidFill>
                  <a:srgbClr val="996600"/>
                </a:solidFill>
                <a:latin typeface="Arial"/>
                <a:ea typeface="Arial"/>
              </a:rPr>
              <a:t>®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ctober 22,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2666880" y="6172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SC C63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® meeting at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Boulder,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lide </a:t>
            </a:r>
            <a:fld id="{F8FE63FA-7719-438F-8157-FD44E0EFB269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2:41:30Z</dcterms:created>
  <dc:creator>awall</dc:creator>
  <dc:description/>
  <dc:language>en-US</dc:language>
  <cp:lastModifiedBy>Don</cp:lastModifiedBy>
  <dcterms:modified xsi:type="dcterms:W3CDTF">2009-10-22T05:20:00Z</dcterms:modified>
  <cp:revision>104</cp:revision>
  <dc:subject/>
  <dc:title>Section B/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